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9150-8155-4BCF-A74B-FBAAB4F1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4102-1A39-48CD-A55F-1C3403EF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B7C8-BC35-4623-A9A5-39F7A1FD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228C6-3C72-4C5B-8D51-C23901B9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8F33-8017-4A59-9ED9-6A849597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6733-5C3C-4C2C-8F40-7A357A31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502B-C654-4674-9C98-3F716CF5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2F69-1B0F-41B3-B77E-3323E952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5E40-CA87-4629-8A35-71B3A6AA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9F16-6228-4E51-828C-61036F14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2800-B271-455C-B247-8A1531C6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E1C2-57AA-4A04-ACE3-A0EDA9BF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B38C-AC04-4E25-94DB-2344CA7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6B06-9E01-489E-B40C-A24DB34A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3083-7DDB-4D33-8724-2376E365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CE2B-135C-4BF7-A2C8-B57B2927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1A32-09E2-4891-AA5C-EE7037E8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2309-0990-4867-A6D1-986EE071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B156-3E7E-477B-B4D0-29006DFF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1560-D637-4CE1-A995-ADF0185A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5FEB-1030-4387-9126-4E09DA83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1955-8915-4E5C-A79D-ACCD617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D468B-DAB0-4A12-8956-0D14C6B9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B7C4-DDFD-4A95-A936-3269E66A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C1E4-22E6-4120-8A26-10ED6CE8C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FDFC-1A56-4EEC-9DC1-DA89E3EE8C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7"/>
          <p:cNvSpPr txBox="1"/>
          <p:nvPr/>
        </p:nvSpPr>
        <p:spPr>
          <a:xfrm>
            <a:off x="1447920" y="2286000"/>
            <a:ext cx="65530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а по "Дубровскому 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856520" y="334080"/>
            <a:ext cx="561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дание №9. Дворянские усадь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52280" y="1751040"/>
            <a:ext cx="876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Как называется деревня Троекуро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Покровское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Как называется деревня Дубровского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Кистенёвк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Как называлось имение князя Верейского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Арбатово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«Он ехал берегом широкого озера, из которого вытекала речка и вдали извивалась между холмами; на одном из них над густою зеленью рощи возвышалась зелёная кровля и бельведер огромного каменного дома; на другом – пятиглавая церковь и старинная колокольня». Назовите имен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кровское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431360" y="334080"/>
            <a:ext cx="62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дание №10. «Дубровский» в цифр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-509040" y="1370160"/>
            <a:ext cx="98460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Сколько душ крестьян было у Дубровског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70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Сколько кошек было в загоревшейся усадьбе Дубровского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одн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Сколько денег предложил Дубровский Дефоржу за его документ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10 тыс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Сколько денег послала Анна Савишна Глобова своему сыну? (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ве тысяч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Сколько лет было Владимиру Дубровскому по полицейскому описанию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23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6.Сколько душ крепостных крестьян было у князя Верейского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3 тысяч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762120" y="170640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дведение итогов игры, определение команды–победителя и самого эрудированного игро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838080" y="1828800"/>
            <a:ext cx="74678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52280" y="531360"/>
            <a:ext cx="87631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авила игр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Все учащиеся делятся на две команд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Количество учащихся в команде – любо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Организация пространства: количество игровых столов – 2 + стол для жюр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Команды заранее готовят название, девиз (можно эмблемы и др.) и выбирают капита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Вопросы задаются поочередно командам. Команда имеет право ответить один раз на свой вопрос. Если дан неправильный ответ, то право ответа имеет команда соперников. В случае неверного ответа второй команды вопрос разыгрывается среди эрудитов, и присуждаются персональные баллы учащемуся, давшему верный отве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6.Каждый правильный ответ – 1 бал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7.В состав жюри могут входить как педагоги, так и учащие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8.Оборудование: авторский цифровой ресурс в виде слайдовой презентации Приложение1, компьютер, медиапроектор, карточки с заданиями, ордена эрудит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1635120" y="1142640"/>
            <a:ext cx="61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 чём особенности композиции романа «Дубровский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анды работают с карточкой №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4" descr="http://www.saharina.ru/metod/lit/les1/img1.gif"/>
          <p:cNvPicPr/>
          <p:nvPr/>
        </p:nvPicPr>
        <p:blipFill>
          <a:blip r:embed="rId1"/>
          <a:stretch/>
        </p:blipFill>
        <p:spPr>
          <a:xfrm>
            <a:off x="1676520" y="2819520"/>
            <a:ext cx="5410080" cy="3476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732680" y="181800"/>
            <a:ext cx="568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дание №1. Композиция ром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23520" y="334080"/>
            <a:ext cx="84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дание №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О каких сценах, событиях идёт реч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57200" y="684000"/>
            <a:ext cx="830592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«Он шёл не разбирая дороги; сучья поминутно задевали и царапали его, ноги его поминутно вязли в болоте, он ничего не замечал.» О каком герое идёт речь? В какой момент он так изображается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Владимир Дубровский после похорон отц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«…ужасное смятение изобразилось на лице его; багровый румянец заступил место обыкновенной бледности, глаза засверкали, он произносил невнятные звук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Андрей Гаврилович Дубровский, когда увидел Троекурова перед смертью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Что сделал Троекуров, когда Шабашкин явился к нему с поклоном и поздравлениями в связи с приобретением имения Дубровского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гнал его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Дубровский был отменно сердит, прежде сего никогда люди Троекурова, известные разбойники, не осмеливались шалить в пределах его владений…» На что сердит Дубровский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мужики Троекурова воровали лес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838080" y="533520"/>
            <a:ext cx="792504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Вдруг он поднял голову, глаза его засверкали, он топнул ногою, оттолкнул секретаря с такою силою, что тот упал». Назовите героя и эпизод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Дубровский в суде после провозглашения приговор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Что сделал Дубровский с покровскими мужиками, воровавшими у него лес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проучил прутьям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По какому поводу был дан званый обед в поместье Троекурова, после которого Дубровский ограбил Антона Пафнутьич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церковного праздник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Что делал мальчик, посыльный Дубровского, в саду Троекурова, по его собственным словам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собирал ягоды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Чем была занята у окна Марья Кирилловна, когда получила вторую записку от Дубровского? (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шивала на пяльцах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6.С какой целью Дубровский стремился попасть в до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Троекурова? (отомстить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8600" y="820440"/>
            <a:ext cx="86104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«Накануне был отдан приказ псарям и стремянным быть готовыми к пяти часам утра. Кто такой стремянный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конюх-слуга, ухаживающий за лошадью барин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«Кирилла Петрович громко засмеялся при дерзком замечании своего холопа». Кто такой холоп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крепостной слуг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Чем занимается гувернёр? (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питатель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Кто такой стряпчий? Где он работает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стряпчий – ходатай по служебным делам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«На днях покровский пономарь сказал на крестинах у нашего старосты: полно вам гулять; вот ужо приберет вас к рукам Кирилла Петрович». Где служит пономарь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в христианской церкв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6.Что такое купчая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документ на приобретённое, купленное имущество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7.Кем был по профессии у себя на родине настоящий Дефорж-француз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кондитер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260280" y="304920"/>
            <a:ext cx="94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дание №3 Исторические реалии. Особенности лекси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32640" y="33408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дание №5. Узнайте героев романа по описанию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607680"/>
            <a:ext cx="891540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«…в залу вошёл, насилу передвигая ноги, старик высокого роста, бледный и худой, в халате и колпаке». (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ндрей Гаврилович Дубровский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Он лишился матери с малолетства и, почти не зная отца своего, был привезён в Петербург на восьмом году своего возраста»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Владимир Дубровский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«Будучи расточителен и честолюбив, он позволял себе роскошные прихоти, играл в карты и входил в долги, не заботясь о будущем…»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Владимир Дубровский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Этот герой «…выказывал пороки человека необразованного», «привык давать волю всем порывам пылкого нрава и всем затеям довольно ограниченного ума». «Надменный… с людьми самого высшего звания», «с крестьянами и дворовыми обходился строго и своенравно»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Троекуров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Маленький человечек в кожаном картузе и фризовой шинели вышел из телеги. О каком герое идёт речь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заседатель Шабашкин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954080" y="562680"/>
            <a:ext cx="50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дание №6. Значение име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8600" y="1388520"/>
            <a:ext cx="86104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Имя этого героя в переводе с греческого обозначает «господин, владыка, повелитель», а отчество – скала, утёс, камен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Кирилла Петрович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Имя этого героя в переводе с греческого обозначает мужественный, храбрый, а его отчество в переводе с древнееврейского – сильный муж или крепость. О ком идёт реч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Андрей Гаврилович Дубровский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-365400" y="456120"/>
            <a:ext cx="9716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дание №8. Второстепенные и эпизодические персонажи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img2"/>
          <p:cNvPicPr/>
          <p:nvPr/>
        </p:nvPicPr>
        <p:blipFill>
          <a:blip r:embed="rId1"/>
          <a:stretch/>
        </p:blipFill>
        <p:spPr>
          <a:xfrm>
            <a:off x="1143000" y="1828800"/>
            <a:ext cx="67816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0-03-12T11:52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